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AFA1-406C-4E7F-B320-29E586626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D0B7-D137-4058-B662-E8D87F7C1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6911-3B2B-4C59-9CA6-41E7E7B16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0EFE-2ADA-4C6C-A937-14EE2EF47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4928C-E28D-46E7-B7F3-D37D7F5D1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BC8A9-9FBC-43AD-AA15-8C99C84BB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C58BD-CC7C-4905-B059-3FE5B5A3F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1419F-8EA3-4480-9631-EEFC77FCA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8454A-EAAA-40D9-8F52-F934C9C55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ACB24-6DDA-4EE9-BCA9-32C94848C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856B1-15A5-4856-9658-C7E52DF8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8861-DDA1-4EE7-806A-923D335B3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99669-1757-469A-ABF1-D8722C5E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2D4EC-5E37-4EF7-B602-1A19DC2F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B804A-497F-42A9-92C6-9609DF104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6A828-4297-4EB3-BE27-315C52ABD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E39ED-D982-4B0B-A71B-AB1E16F22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F332-654F-4A2A-8C57-C61D62672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7A4B-1F4D-4042-974D-B0E7C1E83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792B-CB59-4E4D-8CAA-12001CD22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EF31-E68C-4D14-87EF-0B3CBBD42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9422-A0A1-4D92-8727-93EF5822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44C4-3CD4-43C2-BF3F-BDC04792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23FB-6531-49A5-A8D9-0B21F5DA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2133720"/>
                <a:gd name="textAreaBottom" fmla="*/ 2134080 h 2133720"/>
              </a:gdLst>
              <a:ahLst/>
              <a:rect l="textAreaLeft" t="textAreaTop" r="textAreaRight" b="textAreaBottom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694480"/>
                <a:gd name="textAreaBottom" fmla="*/ 5694840 h 5694480"/>
              </a:gdLst>
              <a:ahLst/>
              <a:rect l="textAreaLeft" t="textAreaTop" r="textAreaRight" b="textAreaBottom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854280"/>
                <a:gd name="textAreaBottom" fmla="*/ 854640 h 854280"/>
              </a:gdLst>
              <a:ahLst/>
              <a:rect l="textAreaLeft" t="textAreaTop" r="textAreaRight" b="textAreaBottom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069920"/>
                <a:gd name="textAreaBottom" fmla="*/ 1070280 h 1069920"/>
              </a:gdLst>
              <a:ahLst/>
              <a:rect l="textAreaLeft" t="textAreaTop" r="textAreaRight" b="textAreaBottom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>
                <a:gd name="textAreaLeft" fmla="*/ 0 w 6667560"/>
                <a:gd name="textAreaRight" fmla="*/ 6667920 w 6667560"/>
                <a:gd name="textAreaTop" fmla="*/ 0 h 5335560"/>
                <a:gd name="textAreaBottom" fmla="*/ 5335920 h 5335560"/>
              </a:gdLst>
              <a:ahLst/>
              <a:rect l="textAreaLeft" t="textAreaTop" r="textAreaRight" b="textAreaBottom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3055680"/>
                <a:gd name="textAreaBottom" fmla="*/ 3056040 h 3055680"/>
              </a:gdLst>
              <a:ahLst/>
              <a:rect l="textAreaLeft" t="textAreaTop" r="textAreaRight" b="textAreaBottom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>
                <a:gd name="textAreaLeft" fmla="*/ 0 w 6237360"/>
                <a:gd name="textAreaRight" fmla="*/ 6237720 w 6237360"/>
                <a:gd name="textAreaTop" fmla="*/ 0 h 3365640"/>
                <a:gd name="textAreaBottom" fmla="*/ 3366000 h 3365640"/>
              </a:gdLst>
              <a:ahLst/>
              <a:rect l="textAreaLeft" t="textAreaTop" r="textAreaRight" b="textAreaBottom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0C9DA-06DE-4D7A-93C9-9D597E645C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026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1027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Freeform 1028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2133720"/>
                <a:gd name="textAreaBottom" fmla="*/ 2134080 h 2133720"/>
              </a:gdLst>
              <a:ahLst/>
              <a:rect l="textAreaLeft" t="textAreaTop" r="textAreaRight" b="textAreaBottom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Freeform 1029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694480"/>
                <a:gd name="textAreaBottom" fmla="*/ 5694840 h 5694480"/>
              </a:gdLst>
              <a:ahLst/>
              <a:rect l="textAreaLeft" t="textAreaTop" r="textAreaRight" b="textAreaBottom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Freeform 1030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854280"/>
                <a:gd name="textAreaBottom" fmla="*/ 854640 h 854280"/>
              </a:gdLst>
              <a:ahLst/>
              <a:rect l="textAreaLeft" t="textAreaTop" r="textAreaRight" b="textAreaBottom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Freeform 1031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069920"/>
                <a:gd name="textAreaBottom" fmla="*/ 1070280 h 1069920"/>
              </a:gdLst>
              <a:ahLst/>
              <a:rect l="textAreaLeft" t="textAreaTop" r="textAreaRight" b="textAreaBottom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Freeform 1032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>
                <a:gd name="textAreaLeft" fmla="*/ 0 w 6667560"/>
                <a:gd name="textAreaRight" fmla="*/ 6667920 w 6667560"/>
                <a:gd name="textAreaTop" fmla="*/ 0 h 5335560"/>
                <a:gd name="textAreaBottom" fmla="*/ 5335920 h 5335560"/>
              </a:gdLst>
              <a:ahLst/>
              <a:rect l="textAreaLeft" t="textAreaTop" r="textAreaRight" b="textAreaBottom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Freeform 1033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3055680"/>
                <a:gd name="textAreaBottom" fmla="*/ 3056040 h 3055680"/>
              </a:gdLst>
              <a:ahLst/>
              <a:rect l="textAreaLeft" t="textAreaTop" r="textAreaRight" b="textAreaBottom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Freeform 1034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>
                <a:gd name="textAreaLeft" fmla="*/ 0 w 6237360"/>
                <a:gd name="textAreaRight" fmla="*/ 6237720 w 6237360"/>
                <a:gd name="textAreaTop" fmla="*/ 0 h 3365640"/>
                <a:gd name="textAreaBottom" fmla="*/ 3366000 h 3365640"/>
              </a:gdLst>
              <a:ahLst/>
              <a:rect l="textAreaLeft" t="textAreaTop" r="textAreaRight" b="textAreaBottom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E4995-B8B1-4141-9579-D93B61A68CDE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cc00"/>
                </a:solidFill>
                <a:uFillTx/>
                <a:latin typeface="Times New Roman"/>
              </a:rPr>
              <a:t>Chapter 8-Polynomials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Times New Roman"/>
              </a:rPr>
              <a:t>Simplif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  #15 on page 42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swer:  3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#17 on page 42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swer:  y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z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# 29 on page 42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swer: 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6k</a:t>
            </a:r>
            <a:r>
              <a:rPr b="0" lang="en-US" sz="3200" spc="-1" strike="noStrike" u="sng" baseline="30000">
                <a:solidFill>
                  <a:srgbClr val="ffffcc"/>
                </a:solidFill>
                <a:uFillTx/>
                <a:latin typeface="Times New Roman"/>
              </a:rPr>
              <a:t>17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        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9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4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9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4" dur="5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9" dur="5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cc00"/>
                </a:solidFill>
                <a:uFillTx/>
                <a:latin typeface="Times New Roman"/>
              </a:rPr>
              <a:t>8.3-Scientific Notation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Times New Roman"/>
              </a:rPr>
              <a:t>What is Scientific Notation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Scientific Notation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a number written as a product of a factor and a power of 10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factor must be greater than or equal to 1 and less than 10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sed for numbers that are very large or very small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Times New Roman"/>
              </a:rPr>
              <a:t>Express Numbers in </a:t>
            </a:r>
            <a:r>
              <a:rPr b="1" i="1" lang="en-US" sz="4400" spc="-1" strike="noStrike" u="sng">
                <a:solidFill>
                  <a:srgbClr val="ffcc00"/>
                </a:solidFill>
                <a:uFillTx/>
                <a:latin typeface="Times New Roman"/>
              </a:rPr>
              <a:t>Standard Nota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Express the number in standard notation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45 x 10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power of 8 means to move the decimal 8 places to the right and fill in any empty holes with zero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swer:  245,000,00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Times New Roman"/>
              </a:rPr>
              <a:t>Express Numbers in </a:t>
            </a:r>
            <a:r>
              <a:rPr b="1" i="1" lang="en-US" sz="4400" spc="-1" strike="noStrike" u="sng">
                <a:solidFill>
                  <a:srgbClr val="ffcc00"/>
                </a:solidFill>
                <a:uFillTx/>
                <a:latin typeface="Times New Roman"/>
              </a:rPr>
              <a:t>Standard Nota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Express the number in standard notation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 x 10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-5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power of –5 means to move the decimal 5 places to the left and fill in any empty holes with zero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swer:  .00003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Times New Roman"/>
              </a:rPr>
              <a:t>Express Numbers in </a:t>
            </a:r>
            <a:r>
              <a:rPr b="1" i="1" lang="en-US" sz="4400" spc="-1" strike="noStrike" u="sng">
                <a:solidFill>
                  <a:srgbClr val="ffcc00"/>
                </a:solidFill>
                <a:uFillTx/>
                <a:latin typeface="Times New Roman"/>
              </a:rPr>
              <a:t>Scientific Nota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cientific Notation is the reverse of Standard Not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Express the number in scientific nota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0,500,00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ut the decimal right after the first numb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at gives you 3.050000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9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4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9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ow many places do you go to get the decimal back to where it was in the beginning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7….to the right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 the answer is 3.05 x 10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Express the number in scientific nota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00078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ut the decimal after the first number that is not zer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at gives you 0007.8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ow many places do you go to get the decimal back to where it was in the beginning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….to the left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 the answer is 7.81 x 10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-4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Times New Roman"/>
              </a:rPr>
              <a:t>Multiplication and Division with Scientific Nota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Example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5 x 10</a:t>
            </a:r>
            <a:r>
              <a:rPr b="0" lang="en-US" sz="2800" spc="-1" strike="noStrike" baseline="30000">
                <a:solidFill>
                  <a:srgbClr val="ffffcc"/>
                </a:solidFill>
                <a:latin typeface="Times New Roman"/>
              </a:rPr>
              <a:t>-8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)(2.9 x 10</a:t>
            </a:r>
            <a:r>
              <a:rPr b="0" lang="en-US" sz="28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Just simply type it in your calculato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r the times ten (x10) you will use E. (2</a:t>
            </a:r>
            <a:r>
              <a:rPr b="0" lang="en-US" sz="2800" spc="-1" strike="noStrike" baseline="30000">
                <a:solidFill>
                  <a:srgbClr val="ffffcc"/>
                </a:solidFill>
                <a:latin typeface="Times New Roman"/>
              </a:rPr>
              <a:t>n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, comma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 your calculator you should see…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5E-8)(2.9E2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ess ENTER to get your answ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cc00"/>
                </a:solidFill>
                <a:uFillTx/>
                <a:latin typeface="Times New Roman"/>
              </a:rPr>
              <a:t>Assignment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Page 837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Section 8.2 and 8.3 All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Times New Roman"/>
              </a:rPr>
              <a:t>8.1-Multiplying Monomial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Monomial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a number, a variable, or the product of a number and one or more variabl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Example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: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-5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3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en-US" sz="28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</a:t>
            </a:r>
            <a:r>
              <a:rPr b="0" lang="en-US" sz="2800" spc="-1" strike="noStrike" baseline="30000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Constant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monomials that are real numbe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 number by itself, without a variable (Ex: 4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cc00"/>
                </a:solidFill>
                <a:uFillTx/>
                <a:latin typeface="Times New Roman"/>
              </a:rPr>
              <a:t>8.4-Polynomials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Times New Roman"/>
              </a:rPr>
              <a:t>Polynomial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polynomial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is a monomial or a sum of monomial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ypes of polynomial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inomial:  sum or difference of two monomial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rinomial:  sum or difference of three monomial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Times New Roman"/>
              </a:rPr>
              <a:t>Degre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Degree of a monomial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the sum of the exponen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ample:  the degree of 8y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is 4, the degree of 2xy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z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s 6 (because if you add all the exponents of the variables you get 6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Times New Roman"/>
              </a:rPr>
              <a:t>Degre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Degree of a polynomial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the greatest degree of any term in the polynomi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ind the degree of each term, the highest is the degree of the polynomi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ample: 4x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y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+ 3x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+ 5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nd the degree of each ter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x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y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as a degree 4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x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as a degree of 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5 has no degre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greatest is 4, so that’s the degree of the polynomia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Times New Roman"/>
              </a:rPr>
              <a:t>Arrange Polynomial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rrange Polynomials in ascending or descending ord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Ascending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least to greate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Descending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greatest to lea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Exampl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 6x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–12 + 5x in descending ord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6x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+ 5x –12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cc00"/>
                </a:solidFill>
                <a:uFillTx/>
                <a:latin typeface="Times New Roman"/>
              </a:rPr>
              <a:t>8.5-Adding and Subtracting Polynomials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en adding or subtracting polynomials remember to combine LIKE TERM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Exampl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3x</a:t>
            </a:r>
            <a:r>
              <a:rPr b="0" lang="en-US" sz="3200" spc="-1" strike="noStrike" baseline="30000">
                <a:solidFill>
                  <a:srgbClr val="ffcc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0099"/>
                </a:solidFill>
                <a:latin typeface="Times New Roman"/>
              </a:rPr>
              <a:t>– 4x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+ 8) + (</a:t>
            </a:r>
            <a:r>
              <a:rPr b="0" lang="en-US" sz="3200" spc="-1" strike="noStrike">
                <a:solidFill>
                  <a:srgbClr val="cc0099"/>
                </a:solidFill>
                <a:latin typeface="Times New Roman"/>
              </a:rPr>
              <a:t>2x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– 7x</a:t>
            </a:r>
            <a:r>
              <a:rPr b="0" lang="en-US" sz="3200" spc="-1" strike="noStrike" baseline="30000">
                <a:solidFill>
                  <a:srgbClr val="ffcc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– 5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tice which terms are alike…combine these terms. (They have been color coded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3x</a:t>
            </a:r>
            <a:r>
              <a:rPr b="0" lang="en-US" sz="3200" spc="-1" strike="noStrike" baseline="30000">
                <a:solidFill>
                  <a:srgbClr val="ffcc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– 7x</a:t>
            </a:r>
            <a:r>
              <a:rPr b="0" lang="en-US" sz="3200" spc="-1" strike="noStrike" baseline="30000">
                <a:solidFill>
                  <a:srgbClr val="ffcc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= -4x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Times New Roman"/>
              </a:rPr>
              <a:t>– </a:t>
            </a:r>
            <a:r>
              <a:rPr b="0" lang="en-US" sz="3200" spc="-1" strike="noStrike">
                <a:solidFill>
                  <a:srgbClr val="cc0099"/>
                </a:solidFill>
                <a:latin typeface="Times New Roman"/>
              </a:rPr>
              <a:t>4x + 2x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= -2x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8 – 5 = 3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 the answer is… -4x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- 2x + 3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e sure to put the powers in descending ord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Times New Roman"/>
              </a:rPr>
              <a:t>Add or Subtract Polynomial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(5y</a:t>
            </a:r>
            <a:r>
              <a:rPr b="1" i="1" lang="en-US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 – 3y + 8) + (4y</a:t>
            </a:r>
            <a:r>
              <a:rPr b="1" i="1" lang="en-US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 – 9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Answe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  9y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–3y –1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(3ax</a:t>
            </a:r>
            <a:r>
              <a:rPr b="1" i="1" lang="en-US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 – 5x – 3a) – (6a – 8a</a:t>
            </a:r>
            <a:r>
              <a:rPr b="1" i="1" lang="en-US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x + 4x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Answe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  3ax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– 9x – 9a + 8a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7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2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7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2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cc00"/>
                </a:solidFill>
                <a:uFillTx/>
                <a:latin typeface="Times New Roman"/>
              </a:rPr>
              <a:t>8.6-Multiplying a Polynomial by a Monomial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Times New Roman"/>
              </a:rPr>
              <a:t>Examp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 </a:t>
            </a: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-2x</a:t>
            </a:r>
            <a:r>
              <a:rPr b="1" i="1" lang="en-US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(3x</a:t>
            </a:r>
            <a:r>
              <a:rPr b="1" i="1" lang="en-US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 – 7x + 10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tice the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–2x</a:t>
            </a:r>
            <a:r>
              <a:rPr b="0" i="1" lang="en-US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on the outside of the parenthesis……you must distribute thi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2x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* 3x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= -6x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2x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* -7x = 14x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2x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* 10 = -20x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Answe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  -6x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+ 14x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– 20x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7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Times New Roman"/>
              </a:rPr>
              <a:t>8.1-Multiplying Monomial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o MULTIPLY powers that have the SAME BASE, just simply ADD the exponents and leave the base the sam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Exampl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* 2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= 2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* x = x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(x is the same as x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d 5 + 1 = 6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Times New Roman"/>
              </a:rPr>
              <a:t>Examp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68544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 </a:t>
            </a: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4(3d</a:t>
            </a:r>
            <a:r>
              <a:rPr b="1" i="1" lang="en-US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 + 5d) – d(d</a:t>
            </a:r>
            <a:r>
              <a:rPr b="1" i="1" lang="en-US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 –7d + 12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tice you have to distribute the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–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 * 3d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= 12d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 * 5d = 20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d * d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= -d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d * -7d = 7d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d * 12 = -12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ut it all together…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12d</a:t>
            </a:r>
            <a:r>
              <a:rPr b="0" lang="en-US" sz="3200" spc="-1" strike="noStrike" baseline="30000">
                <a:solidFill>
                  <a:srgbClr val="ffcc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0099"/>
                </a:solidFill>
                <a:latin typeface="Times New Roman"/>
              </a:rPr>
              <a:t>+ 20d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–d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+ 7d</a:t>
            </a:r>
            <a:r>
              <a:rPr b="0" lang="en-US" sz="3200" spc="-1" strike="noStrike" baseline="30000">
                <a:solidFill>
                  <a:srgbClr val="ffcc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0099"/>
                </a:solidFill>
                <a:latin typeface="Times New Roman"/>
              </a:rPr>
              <a:t>– 12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tice the like terms…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Answe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  -d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+ 19d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+ 8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89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94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99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4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9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4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9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24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29" dur="5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4" dur="500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9" dur="500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Times New Roman"/>
              </a:rPr>
              <a:t>Examp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609120"/>
            <a:ext cx="77724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 </a:t>
            </a: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y(y – 12) + y(y + 2) + 25 = 2y(y + 5) – 15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stribute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2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y * y = y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y * -12 = -12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y * y = y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y * 2 = 2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on’t forget the +25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y * y = 2y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y * 5 = 10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on’t forget the -15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w you have……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y</a:t>
            </a:r>
            <a:r>
              <a:rPr b="0" lang="en-US" sz="3200" spc="-1" strike="noStrike" baseline="30000">
                <a:solidFill>
                  <a:srgbClr val="ffcc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0099"/>
                </a:solidFill>
                <a:latin typeface="Times New Roman"/>
              </a:rPr>
              <a:t>– 12y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+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y</a:t>
            </a:r>
            <a:r>
              <a:rPr b="0" lang="en-US" sz="3200" spc="-1" strike="noStrike" baseline="30000">
                <a:solidFill>
                  <a:srgbClr val="ffcc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0099"/>
                </a:solidFill>
                <a:latin typeface="Times New Roman"/>
              </a:rPr>
              <a:t>+ 2y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+ 25 = 2y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+ 10y –15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mbine like terms…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y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–10y + 25 = 2y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+ 10y – 15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w you have to solve because you have an equals sig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Answe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  y = 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cc00"/>
                </a:solidFill>
                <a:uFillTx/>
                <a:latin typeface="Times New Roman"/>
              </a:rPr>
              <a:t>8.7-Multiplying Polynomials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Times New Roman"/>
              </a:rPr>
              <a:t>Multiplying Two Binomial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Exampl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(x + 3) (x + 2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s can be done a number of way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se either FOIL or Box Metho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8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85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0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5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Times New Roman"/>
              </a:rPr>
              <a:t>FOIL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(x + 3) (x + 2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Multiply the </a:t>
            </a: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terms in ea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x * x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= x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Multiply the </a:t>
            </a: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Oute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term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x * 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= 2x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Multiply the </a:t>
            </a: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Inne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term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3 * x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= 3x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Multiply the </a:t>
            </a: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Last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term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3 * 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= 6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swer: x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+ 5x + 6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7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2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7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2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7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2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7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2" dur="5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7" dur="500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2" dur="500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Object 3"/>
          <p:cNvGraphicFramePr/>
          <p:nvPr/>
        </p:nvGraphicFramePr>
        <p:xfrm>
          <a:off x="1371600" y="1380960"/>
          <a:ext cx="6248520" cy="518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380960"/>
                    <a:ext cx="6248520" cy="518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Oval 12"/>
          <p:cNvSpPr/>
          <p:nvPr/>
        </p:nvSpPr>
        <p:spPr>
          <a:xfrm>
            <a:off x="2590920" y="4267080"/>
            <a:ext cx="1523880" cy="1447920"/>
          </a:xfrm>
          <a:prstGeom prst="ellips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Oval 9"/>
          <p:cNvSpPr/>
          <p:nvPr/>
        </p:nvSpPr>
        <p:spPr>
          <a:xfrm>
            <a:off x="4876920" y="2438280"/>
            <a:ext cx="1523880" cy="1447920"/>
          </a:xfrm>
          <a:prstGeom prst="ellips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Times New Roman"/>
              </a:rPr>
              <a:t>Box Method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4"/>
              <p:cNvSpPr txBox="1"/>
              <p:nvPr/>
            </p:nvSpPr>
            <p:spPr>
              <a:xfrm>
                <a:off x="2666880" y="2286000"/>
                <a:ext cx="1295640" cy="14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6"/>
              <p:cNvSpPr txBox="1"/>
              <p:nvPr/>
            </p:nvSpPr>
            <p:spPr>
              <a:xfrm>
                <a:off x="2666880" y="4267080"/>
                <a:ext cx="1524240" cy="133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7"/>
              <p:cNvSpPr txBox="1"/>
              <p:nvPr/>
            </p:nvSpPr>
            <p:spPr>
              <a:xfrm>
                <a:off x="5257800" y="4343400"/>
                <a:ext cx="92556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5"/>
              <p:cNvSpPr txBox="1"/>
              <p:nvPr/>
            </p:nvSpPr>
            <p:spPr>
              <a:xfrm>
                <a:off x="5181480" y="2514600"/>
                <a:ext cx="121932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3" dur="indefinite" restart="never" nodeType="tmRoot">
          <p:childTnLst>
            <p:seq>
              <p:cTn id="1154" dur="indefinite" nodeType="mainSeq">
                <p:childTnLst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Times New Roman"/>
              </a:rPr>
              <a:t>Combin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69" name="Object 4"/>
          <p:cNvGraphicFramePr/>
          <p:nvPr/>
        </p:nvGraphicFramePr>
        <p:xfrm>
          <a:off x="685800" y="1523880"/>
          <a:ext cx="487692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487692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6386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mbine the two that are circl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Answer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+ 5x + 6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9" dur="indefinite" restart="never" nodeType="tmRoot">
          <p:childTnLst>
            <p:seq>
              <p:cTn id="1200" dur="indefinite" nodeType="mainSeq">
                <p:childTnLst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0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6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1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Times New Roman"/>
              </a:rPr>
              <a:t>Polynomials</a:t>
            </a:r>
            <a:br>
              <a:rPr sz="4400"/>
            </a:b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(4x + 9) (2x</a:t>
            </a:r>
            <a:r>
              <a:rPr b="1" i="1" lang="en-US" sz="4400" spc="-1" strike="noStrike" baseline="30000">
                <a:solidFill>
                  <a:srgbClr val="ffcc00"/>
                </a:solidFill>
                <a:latin typeface="Times New Roman"/>
              </a:rPr>
              <a:t>2</a:t>
            </a: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 – 5x + 3)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Multiply 4x by        (2x</a:t>
            </a:r>
            <a:r>
              <a:rPr b="0" lang="en-US" sz="3600" spc="-1" strike="noStrike" baseline="30000">
                <a:solidFill>
                  <a:srgbClr val="ffffcc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–5x + 3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4x * 2x</a:t>
            </a:r>
            <a:r>
              <a:rPr b="0" lang="en-US" sz="36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= 8x</a:t>
            </a:r>
            <a:r>
              <a:rPr b="0" lang="en-US" sz="3600" spc="-1" strike="noStrike" baseline="30000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4x * -5x = -20x</a:t>
            </a:r>
            <a:r>
              <a:rPr b="0" lang="en-US" sz="36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4x * 3 = 12x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Multiply 9 by          (2x</a:t>
            </a:r>
            <a:r>
              <a:rPr b="0" lang="en-US" sz="3600" spc="-1" strike="noStrike" baseline="30000">
                <a:solidFill>
                  <a:srgbClr val="ffffcc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–5x + 3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9 * 2x</a:t>
            </a:r>
            <a:r>
              <a:rPr b="0" lang="en-US" sz="36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= 18x</a:t>
            </a:r>
            <a:r>
              <a:rPr b="0" lang="en-US" sz="36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9 * -5x = -45x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9 * 3 = 27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7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7" dur="indefinite" restart="never" nodeType="tmRoot">
          <p:childTnLst>
            <p:seq>
              <p:cTn id="1228" dur="indefinite" nodeType="mainSeq">
                <p:childTnLst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990720" y="2743200"/>
            <a:ext cx="7315200" cy="2666880"/>
          </a:xfrm>
          <a:prstGeom prst="rect">
            <a:avLst/>
          </a:prstGeom>
          <a:ln w="0">
            <a:noFill/>
          </a:ln>
        </p:spPr>
      </p:pic>
      <p:sp>
        <p:nvSpPr>
          <p:cNvPr id="177" name="Oval 21"/>
          <p:cNvSpPr/>
          <p:nvPr/>
        </p:nvSpPr>
        <p:spPr>
          <a:xfrm rot="19980000">
            <a:off x="3242880" y="3534840"/>
            <a:ext cx="4816440" cy="1341720"/>
          </a:xfrm>
          <a:prstGeom prst="ellips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Oval 20"/>
          <p:cNvSpPr/>
          <p:nvPr/>
        </p:nvSpPr>
        <p:spPr>
          <a:xfrm rot="19980000">
            <a:off x="1033200" y="3292200"/>
            <a:ext cx="4816440" cy="1342800"/>
          </a:xfrm>
          <a:prstGeom prst="ellips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r…BOX METHOD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5"/>
              <p:cNvSpPr txBox="1"/>
              <p:nvPr/>
            </p:nvSpPr>
            <p:spPr>
              <a:xfrm>
                <a:off x="0" y="2971800"/>
                <a:ext cx="9572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6"/>
              <p:cNvSpPr txBox="1"/>
              <p:nvPr/>
            </p:nvSpPr>
            <p:spPr>
              <a:xfrm>
                <a:off x="0" y="4267080"/>
                <a:ext cx="9144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7"/>
              <p:cNvSpPr txBox="1"/>
              <p:nvPr/>
            </p:nvSpPr>
            <p:spPr>
              <a:xfrm>
                <a:off x="1447920" y="1828800"/>
                <a:ext cx="10476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8"/>
              <p:cNvSpPr txBox="1"/>
              <p:nvPr/>
            </p:nvSpPr>
            <p:spPr>
              <a:xfrm>
                <a:off x="3733920" y="1981080"/>
                <a:ext cx="119700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9"/>
              <p:cNvSpPr txBox="1"/>
              <p:nvPr/>
            </p:nvSpPr>
            <p:spPr>
              <a:xfrm>
                <a:off x="6400800" y="1981080"/>
                <a:ext cx="9144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10"/>
              <p:cNvSpPr txBox="1"/>
              <p:nvPr/>
            </p:nvSpPr>
            <p:spPr>
              <a:xfrm>
                <a:off x="1523880" y="2895480"/>
                <a:ext cx="121932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11"/>
              <p:cNvSpPr txBox="1"/>
              <p:nvPr/>
            </p:nvSpPr>
            <p:spPr>
              <a:xfrm>
                <a:off x="3352680" y="2971800"/>
                <a:ext cx="21672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12"/>
              <p:cNvSpPr txBox="1"/>
              <p:nvPr/>
            </p:nvSpPr>
            <p:spPr>
              <a:xfrm>
                <a:off x="6324480" y="3124080"/>
                <a:ext cx="121932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13"/>
              <p:cNvSpPr txBox="1"/>
              <p:nvPr/>
            </p:nvSpPr>
            <p:spPr>
              <a:xfrm>
                <a:off x="1447920" y="4191120"/>
                <a:ext cx="154764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14"/>
              <p:cNvSpPr txBox="1"/>
              <p:nvPr/>
            </p:nvSpPr>
            <p:spPr>
              <a:xfrm>
                <a:off x="3505320" y="4343400"/>
                <a:ext cx="18558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15"/>
              <p:cNvSpPr txBox="1"/>
              <p:nvPr/>
            </p:nvSpPr>
            <p:spPr>
              <a:xfrm>
                <a:off x="6477120" y="4343400"/>
                <a:ext cx="99036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1" name="Rectangle 22"/>
          <p:cNvSpPr/>
          <p:nvPr/>
        </p:nvSpPr>
        <p:spPr>
          <a:xfrm>
            <a:off x="1295280" y="5410080"/>
            <a:ext cx="617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cc"/>
                </a:solidFill>
                <a:uFillTx/>
                <a:latin typeface="Times New Roman"/>
              </a:rPr>
              <a:t>Answer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8x</a:t>
            </a:r>
            <a:r>
              <a:rPr b="0" lang="en-US" sz="4000" spc="-1" strike="noStrike" baseline="30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–2x</a:t>
            </a:r>
            <a:r>
              <a:rPr b="0" lang="en-US" sz="4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–33x + 27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9" dur="indefinite" restart="never" nodeType="tmRoot">
          <p:childTnLst>
            <p:seq>
              <p:cTn id="1300" dur="indefinite" nodeType="mainSeq">
                <p:childTnLst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Times New Roman"/>
              </a:rPr>
              <a:t>Simplif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  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(-7c</a:t>
            </a:r>
            <a:r>
              <a:rPr b="0" lang="en-US" sz="4800" spc="-1" strike="noStrike" baseline="30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d</a:t>
            </a:r>
            <a:r>
              <a:rPr b="0" lang="en-US" sz="4800" spc="-1" strike="noStrike" baseline="30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) (4cd</a:t>
            </a:r>
            <a:r>
              <a:rPr b="0" lang="en-US" sz="4800" spc="-1" strike="noStrike" baseline="30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591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= -28c</a:t>
            </a:r>
            <a:r>
              <a:rPr b="0" lang="en-US" sz="4800" spc="-1" strike="noStrike" baseline="30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d</a:t>
            </a:r>
            <a:r>
              <a:rPr b="0" lang="en-US" sz="4800" spc="-1" strike="noStrike" baseline="30000">
                <a:solidFill>
                  <a:srgbClr val="ffffcc"/>
                </a:solidFill>
                <a:latin typeface="Times New Roman"/>
              </a:rPr>
              <a:t>7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591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591120" indent="-591120">
              <a:spcBef>
                <a:spcPts val="1199"/>
              </a:spcBef>
              <a:buClr>
                <a:srgbClr val="ffff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(5a</a:t>
            </a:r>
            <a:r>
              <a:rPr b="0" lang="en-US" sz="48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b</a:t>
            </a:r>
            <a:r>
              <a:rPr b="0" lang="en-US" sz="4800" spc="-1" strike="noStrike" baseline="30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c</a:t>
            </a:r>
            <a:r>
              <a:rPr b="0" lang="en-US" sz="4800" spc="-1" strike="noStrike" baseline="30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) (6a</a:t>
            </a:r>
            <a:r>
              <a:rPr b="0" lang="en-US" sz="4800" spc="-1" strike="noStrike" baseline="30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b</a:t>
            </a:r>
            <a:r>
              <a:rPr b="0" lang="en-US" sz="4800" spc="-1" strike="noStrike" baseline="30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c</a:t>
            </a:r>
            <a:r>
              <a:rPr b="0" lang="en-US" sz="48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591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= 30a</a:t>
            </a:r>
            <a:r>
              <a:rPr b="0" lang="en-US" sz="4800" spc="-1" strike="noStrike" baseline="30000">
                <a:solidFill>
                  <a:srgbClr val="ffffcc"/>
                </a:solidFill>
                <a:latin typeface="Times New Roman"/>
              </a:rPr>
              <a:t>5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b</a:t>
            </a:r>
            <a:r>
              <a:rPr b="0" lang="en-US" sz="4800" spc="-1" strike="noStrike" baseline="30000">
                <a:solidFill>
                  <a:srgbClr val="ffffcc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c</a:t>
            </a:r>
            <a:r>
              <a:rPr b="0" lang="en-US" sz="4800" spc="-1" strike="noStrike" baseline="30000">
                <a:solidFill>
                  <a:srgbClr val="ffffcc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Times New Roman"/>
              </a:rPr>
              <a:t>Find the Power of a Power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o find the power of a power, multiply the exponent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Exampl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(2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= 2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Times New Roman"/>
              </a:rPr>
              <a:t>Simplif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99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(p</a:t>
            </a:r>
            <a:r>
              <a:rPr b="0" lang="en-US" sz="4800" spc="-1" strike="noStrike" baseline="30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)</a:t>
            </a:r>
            <a:r>
              <a:rPr b="0" lang="en-US" sz="4800" spc="-1" strike="noStrike" baseline="30000">
                <a:solidFill>
                  <a:srgbClr val="ffffcc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= p</a:t>
            </a:r>
            <a:r>
              <a:rPr b="0" lang="en-US" sz="4800" spc="-1" strike="noStrike" baseline="30000">
                <a:solidFill>
                  <a:srgbClr val="ffffcc"/>
                </a:solidFill>
                <a:latin typeface="Times New Roman"/>
              </a:rPr>
              <a:t>15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ffff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[(3</a:t>
            </a:r>
            <a:r>
              <a:rPr b="0" lang="en-US" sz="48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)</a:t>
            </a:r>
            <a:r>
              <a:rPr b="0" lang="en-US" sz="4800" spc="-1" strike="noStrike" baseline="30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]</a:t>
            </a:r>
            <a:r>
              <a:rPr b="0" lang="en-US" sz="48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= 3</a:t>
            </a:r>
            <a:r>
              <a:rPr b="0" lang="en-US" sz="4800" spc="-1" strike="noStrike" baseline="30000">
                <a:solidFill>
                  <a:srgbClr val="ffffcc"/>
                </a:solidFill>
                <a:latin typeface="Times New Roman"/>
              </a:rPr>
              <a:t>16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cc00"/>
                </a:solidFill>
                <a:uFillTx/>
                <a:latin typeface="Times New Roman"/>
              </a:rPr>
              <a:t>8.2-Dividing Monomials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Times New Roman"/>
              </a:rPr>
              <a:t>Dividing Powers with the Same Bas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o DIVIDE powers that have the SAME BASE, SUBTRACT the exponent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Exampl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c</a:t>
            </a:r>
            <a:r>
              <a:rPr b="0" lang="en-US" sz="3200" spc="-1" strike="noStrike" u="sng" baseline="30000">
                <a:solidFill>
                  <a:srgbClr val="ffffcc"/>
                </a:solidFill>
                <a:uFillTx/>
                <a:latin typeface="Times New Roman"/>
              </a:rPr>
              <a:t>4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swer: c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8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3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Times New Roman"/>
              </a:rPr>
              <a:t>Power of Zero &amp; Negative Expone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ytime you have a number (except zero) to the power of ZERO, the answer is ON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Exampl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  3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= 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ytime you have a negative exponent, flip it to make is positiv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Exampl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 4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=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              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Exampl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=  5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     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5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-3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6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1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6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12:42:55Z</dcterms:created>
  <dc:creator>admin</dc:creator>
  <dc:description/>
  <dc:language>en-US</dc:language>
  <cp:lastModifiedBy>PCS</cp:lastModifiedBy>
  <dcterms:modified xsi:type="dcterms:W3CDTF">2010-03-17T16:00:25Z</dcterms:modified>
  <cp:revision>84</cp:revision>
  <dc:subject/>
  <dc:title>Chapter 8-Polynomials</dc:title>
</cp:coreProperties>
</file>